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4A70A8-386E-4798-98E7-E27EB12B21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D654AC-D681-48B1-A370-9D787AA59F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8AA38-F146-425C-AE5C-5009A1E6EA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EB098-5766-4480-9433-BD04462E46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BCDBC-7F88-4FA1-9D43-6873B92C22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2CB09-D43D-4EFD-ABB2-AD560898C5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137EE-A218-41DA-9E1B-D59708901F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7E4C8-693E-4BF1-BC1E-2D036F3E82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37F5-934D-41DF-9837-8B69B5D152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78A4-C931-4B1A-9648-F731E180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8F6B7-D02E-44CA-A8A2-227EB392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690B0-0DA1-4885-B61F-35EEFFA50F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4069E-F8E5-41CD-93F6-01319110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88878-1509-433D-B4C1-FCBF330E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67C8F-F250-43F5-B523-62AC7BF9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F238-3963-4A98-B102-94FF480D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FC4F3-3C0C-4B5D-8E81-4BA82B4E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47314-9C08-4B1B-A6E7-C89535F7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461DD-4C33-4250-9270-10130FB8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B5164-5FA8-425E-B871-9EF181BF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16676F-E7FD-42B7-9525-F69E67C9E7A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Заголовок 1"/>
          <p:cNvSpPr/>
          <p:nvPr/>
        </p:nvSpPr>
        <p:spPr>
          <a:xfrm>
            <a:off x="395280" y="2637000"/>
            <a:ext cx="843588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новой структуры КИМ ОГЭ – 2020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ФГОС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284720" y="5288040"/>
            <a:ext cx="4667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мко Елена Анатольев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п.н., доцент кафедры общей и экспериментальной физики АлтГУ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ь региональной предметной комиссии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1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ashimko65@gmail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r>
              <a:rPr b="1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5" descr=""/>
          <p:cNvPicPr/>
          <p:nvPr/>
        </p:nvPicPr>
        <p:blipFill>
          <a:blip r:embed="rId1"/>
          <a:stretch/>
        </p:blipFill>
        <p:spPr>
          <a:xfrm>
            <a:off x="861840" y="136440"/>
            <a:ext cx="7629840" cy="83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TextBox 5"/>
          <p:cNvSpPr/>
          <p:nvPr/>
        </p:nvSpPr>
        <p:spPr>
          <a:xfrm>
            <a:off x="1562040" y="1009800"/>
            <a:ext cx="605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ико-технический факульте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339840" y="0"/>
            <a:ext cx="8712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ификатор ОГЭ, раздел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Контролируемые элементы содержания (КЭ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755640" y="930240"/>
            <a:ext cx="7920000" cy="573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Прямая соединительная линия 6"/>
          <p:cNvSpPr/>
          <p:nvPr/>
        </p:nvSpPr>
        <p:spPr>
          <a:xfrm>
            <a:off x="1908000" y="3645000"/>
            <a:ext cx="237672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рямая соединительная линия 8"/>
          <p:cNvSpPr/>
          <p:nvPr/>
        </p:nvSpPr>
        <p:spPr>
          <a:xfrm>
            <a:off x="1908000" y="4221000"/>
            <a:ext cx="302436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Прямая соединительная линия 9"/>
          <p:cNvSpPr/>
          <p:nvPr/>
        </p:nvSpPr>
        <p:spPr>
          <a:xfrm>
            <a:off x="1908000" y="5013360"/>
            <a:ext cx="280836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ая соединительная линия 10"/>
          <p:cNvSpPr/>
          <p:nvPr/>
        </p:nvSpPr>
        <p:spPr>
          <a:xfrm>
            <a:off x="1908000" y="5516640"/>
            <a:ext cx="161928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8200" y="-360"/>
            <a:ext cx="8362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новой модели  КИМ ОГЭ: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труктура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324000" y="549360"/>
            <a:ext cx="8569080" cy="61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КИМ проверяют группы предметных результатов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понятийного аппарата курса физики основной школы и умения применять изученные понятия, модели, величины и законы для анализа физических явлений и процесс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методологическими умениями (проводить измерения, исследования и ставить опыты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ние принципов действия технических объе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о работе с текстами физического содерж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ешать расчетные задачи и применять полученные знания для объяснения физических проце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модели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ения (3-4), планирование опыта (16), экспериментальное задание (17):  расширение тематики, изменение оборудования, изменение критериев оценивания), технические устройства (19-20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ие моделей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8 (из ВО в КО),  снятие показаний приборов (13), текст (20 и 21), добавление качественной задачи (22, 25-26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мственность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величин (9-10), графики и таблицы (11-12),  работа с текстом, задачи расчетные – 27-2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Скругленный прямоугольник 2"/>
          <p:cNvSpPr/>
          <p:nvPr/>
        </p:nvSpPr>
        <p:spPr>
          <a:xfrm>
            <a:off x="287280" y="3789360"/>
            <a:ext cx="857736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Скругленный прямоугольник 4"/>
          <p:cNvSpPr/>
          <p:nvPr/>
        </p:nvSpPr>
        <p:spPr>
          <a:xfrm>
            <a:off x="316080" y="5248440"/>
            <a:ext cx="857700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99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Скругленный прямоугольник 5"/>
          <p:cNvSpPr/>
          <p:nvPr/>
        </p:nvSpPr>
        <p:spPr>
          <a:xfrm>
            <a:off x="287280" y="6002280"/>
            <a:ext cx="8577360" cy="747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585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744480" y="4581360"/>
            <a:ext cx="7572600" cy="1922760"/>
          </a:xfrm>
          <a:prstGeom prst="rect">
            <a:avLst/>
          </a:prstGeom>
          <a:noFill/>
          <a:ln w="93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преле планируется проведение достаточно масштабной апробации перспективной модели, которая позволит скорректировать новые модели заданий и усовершенствовать предложенные критерии оценивания зада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738360" y="457200"/>
            <a:ext cx="7561080" cy="1557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бликованная в октябре 2018 г. перспективная модель КИМ ОГЭ по физике прошла широкое общественно-профессиональное обсуждение и первичную апробац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755640" y="2492280"/>
            <a:ext cx="7561440" cy="1557000"/>
          </a:xfrm>
          <a:prstGeom prst="rect">
            <a:avLst/>
          </a:prstGeom>
          <a:noFill/>
          <a:ln w="9360">
            <a:solidFill>
              <a:srgbClr val="0066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х результатам были  скорректированы структура и содержание работы. В частности, число заданий уменьшено с 28 до 25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рали задания 14, 19 и 24; задание 23 вместо краткого развернутый отв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Стрелка вниз 4"/>
          <p:cNvSpPr/>
          <p:nvPr/>
        </p:nvSpPr>
        <p:spPr>
          <a:xfrm>
            <a:off x="4230720" y="2060640"/>
            <a:ext cx="720720" cy="288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Стрелка вниз 5"/>
          <p:cNvSpPr/>
          <p:nvPr/>
        </p:nvSpPr>
        <p:spPr>
          <a:xfrm>
            <a:off x="4292640" y="4149720"/>
            <a:ext cx="71892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7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емственность КИМ ОГЭ - 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4" descr=""/>
          <p:cNvPicPr/>
          <p:nvPr/>
        </p:nvPicPr>
        <p:blipFill>
          <a:blip r:embed="rId1"/>
          <a:stretch/>
        </p:blipFill>
        <p:spPr>
          <a:xfrm>
            <a:off x="468360" y="728640"/>
            <a:ext cx="676764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Рисунок 5" descr=""/>
          <p:cNvPicPr/>
          <p:nvPr/>
        </p:nvPicPr>
        <p:blipFill>
          <a:blip r:embed="rId2"/>
          <a:stretch/>
        </p:blipFill>
        <p:spPr>
          <a:xfrm>
            <a:off x="2259000" y="3357720"/>
            <a:ext cx="6726240" cy="329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6160" y="28080"/>
            <a:ext cx="87850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5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новой модели  КИМ ОГЭ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3  (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вле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4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59920" cy="1963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3" name="Рисунок 5" descr=""/>
          <p:cNvPicPr/>
          <p:nvPr/>
        </p:nvPicPr>
        <p:blipFill>
          <a:blip r:embed="rId2"/>
          <a:stretch/>
        </p:blipFill>
        <p:spPr>
          <a:xfrm>
            <a:off x="900000" y="3622680"/>
            <a:ext cx="7459920" cy="311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" name="Стрелка вниз 6"/>
          <p:cNvSpPr/>
          <p:nvPr/>
        </p:nvSpPr>
        <p:spPr>
          <a:xfrm>
            <a:off x="4284720" y="3247920"/>
            <a:ext cx="50328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2627280" y="60897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ве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24360" y="907920"/>
            <a:ext cx="43246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5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вой модели 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ИМ ОГЭ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 4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вле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3348000" y="115920"/>
            <a:ext cx="5680080" cy="662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TextBox 2"/>
          <p:cNvSpPr/>
          <p:nvPr/>
        </p:nvSpPr>
        <p:spPr>
          <a:xfrm>
            <a:off x="6516720" y="6021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492360" y="365040"/>
            <a:ext cx="5515200" cy="623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Заголовок 1"/>
          <p:cNvSpPr/>
          <p:nvPr/>
        </p:nvSpPr>
        <p:spPr>
          <a:xfrm>
            <a:off x="112680" y="907920"/>
            <a:ext cx="3522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300"/>
            </a:br>
            <a:r>
              <a:rPr b="1" lang="ru-RU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</a:t>
            </a:r>
            <a:br>
              <a:rPr sz="3100"/>
            </a:br>
            <a:r>
              <a:rPr b="1" lang="ru-RU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вой модели  </a:t>
            </a:r>
            <a:br>
              <a:rPr sz="3100"/>
            </a:br>
            <a:r>
              <a:rPr b="1" lang="ru-RU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ИМ ОГЭ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5-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сновные формулы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760" y="145800"/>
            <a:ext cx="887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 новой модели  КИМ ОГЭ. 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9-12 (изменение величин, графики, таблицы, схемы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41120" y="2023920"/>
            <a:ext cx="4159440" cy="463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441680" y="1095480"/>
            <a:ext cx="3800520" cy="37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5651640" y="2560680"/>
            <a:ext cx="3363840" cy="409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9280" y="773280"/>
            <a:ext cx="5384880" cy="37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3348000" y="2573280"/>
            <a:ext cx="5562720" cy="402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Заголовок 1"/>
          <p:cNvSpPr/>
          <p:nvPr/>
        </p:nvSpPr>
        <p:spPr>
          <a:xfrm>
            <a:off x="322200" y="-4680"/>
            <a:ext cx="871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ологические ум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1"/>
          <p:cNvSpPr/>
          <p:nvPr/>
        </p:nvSpPr>
        <p:spPr>
          <a:xfrm>
            <a:off x="5651640" y="1146240"/>
            <a:ext cx="31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ие показаний прибор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79280" y="20178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20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3635280" y="42591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Овал 1"/>
          <p:cNvSpPr/>
          <p:nvPr/>
        </p:nvSpPr>
        <p:spPr>
          <a:xfrm>
            <a:off x="4427640" y="6108840"/>
            <a:ext cx="2448000" cy="57600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Заголовок 1"/>
          <p:cNvSpPr/>
          <p:nvPr/>
        </p:nvSpPr>
        <p:spPr>
          <a:xfrm>
            <a:off x="141120" y="4680"/>
            <a:ext cx="8874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я с развернутым ответо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ле апробации убрал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622440" y="1052640"/>
            <a:ext cx="7845120" cy="566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7694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ы ФИП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5120" y="1196640"/>
            <a:ext cx="831852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новой модели ОГ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2020 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6760" indent="-43416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-2019 уч. год   –  обсуждение изменений, разработка новых заданий для открытого банка ОГЭ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новой модели ЕГЭ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2 г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6760" indent="-43416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-2020 уч. год – обсуждение новой модели КИ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6760" indent="-43416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Э-2021 введение отдельных моделей задан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6760" indent="-43416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Э-2022 введение всей модел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ВПР по физик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019 го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6760" indent="-43416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по физике в 11 класса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6760" indent="-43416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по физике в 7 класса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14280" y="173160"/>
            <a:ext cx="70488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rcRect l="0" t="4251" r="0" b="0"/>
          <a:stretch/>
        </p:blipFill>
        <p:spPr>
          <a:xfrm>
            <a:off x="1835280" y="2111400"/>
            <a:ext cx="561636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TextBox 1"/>
          <p:cNvSpPr/>
          <p:nvPr/>
        </p:nvSpPr>
        <p:spPr>
          <a:xfrm>
            <a:off x="339840" y="118728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необходимо показать на опыте, зависит ли выталкивающая сила, действующая со стороны жидкости на погруженное в нее тело, от плотности жидкости. Материалы и оборудование, имеющиеся в наличии, указаны на рисунк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339840" y="152280"/>
            <a:ext cx="8712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ологические умения: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ние 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дание с развернутым ответо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534960" y="53532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вет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оборудование, необходимое для проведения опы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ите ход проведения опы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измерения, которые необходимо прове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33440" y="1268280"/>
            <a:ext cx="8459640" cy="439272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79280" y="333360"/>
            <a:ext cx="8713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оценивания задания 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250920" y="927000"/>
            <a:ext cx="8569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зависимости архимедовой силы от объема погруженной части тела и от плотности жидк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независимости выталкивающей силы от массы тела; зависимости силы трения скольжения от рода поверхности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зависимости периода колебаний пружинного маятника от массы груза и жесткости пружины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изменения температуры воды при различных условиях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ие средней скорости движения бруска по наклонной плоскости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ие ускорения бруска при движении по наклонной плоскости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ие частоты и периода колебаний пружинного маятника (с электронным секундомером)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ие количества теплоты, полученного водо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ие показателя преломления стекл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Заголовок 1"/>
          <p:cNvSpPr/>
          <p:nvPr/>
        </p:nvSpPr>
        <p:spPr>
          <a:xfrm>
            <a:off x="339840" y="152280"/>
            <a:ext cx="8712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вые экспериментальные зад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5800"/>
            <a:ext cx="8362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новой модели  КИМ ОГЭ.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ы оборудования: 7 комплект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50920" y="1808280"/>
            <a:ext cx="4198680" cy="48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4248360" cy="540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5729400" y="1341360"/>
            <a:ext cx="3243240" cy="28796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235080" y="1424160"/>
            <a:ext cx="540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рите экспериментальную установку для измерения ускорения скольжения бруска по наклонной плоскости (см. рисунок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дения измерений используйте штатив, направляющую, электронный секундомер с датчиками, брусок, линейку и  транспорти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201600" y="4221000"/>
            <a:ext cx="8548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е направляющую под углом 45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ервый датчик установите в точке «0» направляющей, второй – в точке 50 см. При пуске бруска пусковой магнит установите на 0,5 см выше первого датчик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лютная погрешность измерения промежутка времени при помощи электронного секундомера составляет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001 с, абсолютную погрешность измерения расстояния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с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Заголовок 1"/>
          <p:cNvSpPr/>
          <p:nvPr/>
        </p:nvSpPr>
        <p:spPr>
          <a:xfrm>
            <a:off x="179280" y="152280"/>
            <a:ext cx="8713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 экспериментального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ния 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дание с развернутым ответом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468360" y="148428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ускорение скольжения брус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ответе запиши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у, по которой рассчитывается путь, пройденный бруском при равноускоренном движении без начальной скорости, и получите из неё формулу для определения ускор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измерения пути, пройденного бруском, с учётом абсолютной погрешности измерения; результаты трёх измерений промежутков времени движения бруска с учётом абсолютной погрешности измер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у для определения среднего значения промежутка времени и его знач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е значение ускорения брус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Заголовок 1"/>
          <p:cNvSpPr/>
          <p:nvPr/>
        </p:nvSpPr>
        <p:spPr>
          <a:xfrm>
            <a:off x="179280" y="152280"/>
            <a:ext cx="8713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 экспериментального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ния 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дание с развернутым ответом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7104240" cy="3568680"/>
          </a:xfrm>
          <a:prstGeom prst="rect">
            <a:avLst/>
          </a:prstGeom>
          <a:ln w="0">
            <a:noFill/>
          </a:ln>
        </p:spPr>
      </p:pic>
      <p:sp>
        <p:nvSpPr>
          <p:cNvPr id="142" name="Заголовок 1"/>
          <p:cNvSpPr/>
          <p:nvPr/>
        </p:nvSpPr>
        <p:spPr>
          <a:xfrm>
            <a:off x="179280" y="152280"/>
            <a:ext cx="8713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 экспериментального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ния 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дание с развернутым ответом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333360" y="1268280"/>
            <a:ext cx="8415360" cy="5327640"/>
          </a:xfrm>
          <a:prstGeom prst="rect">
            <a:avLst/>
          </a:prstGeom>
          <a:ln w="0">
            <a:noFill/>
          </a:ln>
        </p:spPr>
      </p:pic>
      <p:sp>
        <p:nvSpPr>
          <p:cNvPr id="144" name="Заголовок 1"/>
          <p:cNvSpPr/>
          <p:nvPr/>
        </p:nvSpPr>
        <p:spPr>
          <a:xfrm>
            <a:off x="179280" y="152280"/>
            <a:ext cx="8713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оцени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периментального задания 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233280" y="2060640"/>
            <a:ext cx="8748720" cy="437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6" name="Заголовок 1"/>
          <p:cNvSpPr/>
          <p:nvPr/>
        </p:nvSpPr>
        <p:spPr>
          <a:xfrm>
            <a:off x="108000" y="260280"/>
            <a:ext cx="903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новой модели  КИМ ОГЭ. </a:t>
            </a:r>
            <a:br>
              <a:rPr sz="25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нау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ад, который внесли в развитие физики указанные ученые (изучение явлений, открытие законов, создание технических устройст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264960" y="1268280"/>
            <a:ext cx="8544240" cy="504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Заголовок 1"/>
          <p:cNvSpPr/>
          <p:nvPr/>
        </p:nvSpPr>
        <p:spPr>
          <a:xfrm>
            <a:off x="141120" y="146160"/>
            <a:ext cx="88743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ические устрой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ле апробации убрал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дель КИМ ОГЭ-2020: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пы предметных результатов обучения по физи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6560" y="20606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понятийного аппарата курса физики основной школы и умения применять изученные понятия, модели, величины и законы для анализа физических явлений и процессов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методологическими умениями (проводить измерения, исследования и ставить опы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ние принципов действия технических объек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о работе с текстами физического содерж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ешать расчетные задачи и применять полученные знания для объяснения физических процес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146160" y="1440"/>
            <a:ext cx="8874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я с развернутым ответ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393840" y="644400"/>
            <a:ext cx="8073720" cy="2398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420840" y="3103560"/>
            <a:ext cx="7967520" cy="352728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2"/>
          <p:cNvSpPr/>
          <p:nvPr/>
        </p:nvSpPr>
        <p:spPr>
          <a:xfrm>
            <a:off x="250920" y="644400"/>
            <a:ext cx="8353440" cy="696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7"/>
          <p:cNvSpPr/>
          <p:nvPr/>
        </p:nvSpPr>
        <p:spPr>
          <a:xfrm>
            <a:off x="250920" y="3040200"/>
            <a:ext cx="8216640" cy="1325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Заголовок 1"/>
          <p:cNvSpPr/>
          <p:nvPr/>
        </p:nvSpPr>
        <p:spPr>
          <a:xfrm>
            <a:off x="141120" y="146160"/>
            <a:ext cx="887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я с развернутым ответ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77800" y="824040"/>
            <a:ext cx="7999560" cy="238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1258920" y="3206880"/>
            <a:ext cx="6743520" cy="346212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324000" y="824040"/>
            <a:ext cx="8351640" cy="1092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Заголовок 1"/>
          <p:cNvSpPr/>
          <p:nvPr/>
        </p:nvSpPr>
        <p:spPr>
          <a:xfrm>
            <a:off x="141120" y="146160"/>
            <a:ext cx="887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я с развернутым ответ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87200" y="1844640"/>
            <a:ext cx="87822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10960" y="1677960"/>
            <a:ext cx="8793360" cy="2398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8713800" cy="1244520"/>
          </a:xfrm>
          <a:prstGeom prst="rect">
            <a:avLst/>
          </a:prstGeom>
          <a:ln w="0">
            <a:noFill/>
          </a:ln>
        </p:spPr>
      </p:pic>
      <p:sp>
        <p:nvSpPr>
          <p:cNvPr id="162" name="Заголовок 1"/>
          <p:cNvSpPr/>
          <p:nvPr/>
        </p:nvSpPr>
        <p:spPr>
          <a:xfrm>
            <a:off x="141120" y="146160"/>
            <a:ext cx="887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Апрель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Качественные задач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развернутым ответ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985680" y="1197000"/>
            <a:ext cx="7299360" cy="5475240"/>
          </a:xfrm>
          <a:prstGeom prst="rect">
            <a:avLst/>
          </a:prstGeom>
          <a:ln w="0">
            <a:noFill/>
          </a:ln>
        </p:spPr>
      </p:pic>
      <p:sp>
        <p:nvSpPr>
          <p:cNvPr id="164" name="Заголовок 1"/>
          <p:cNvSpPr/>
          <p:nvPr/>
        </p:nvSpPr>
        <p:spPr>
          <a:xfrm>
            <a:off x="163440" y="39600"/>
            <a:ext cx="8875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Апрель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Расчетные задач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развернутым ответ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684360" y="2492280"/>
            <a:ext cx="781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9400" y="115560"/>
            <a:ext cx="822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ределение заданий по блокам проверяемых предметных результат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991280" cy="403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1692360" y="5110200"/>
            <a:ext cx="5686200" cy="657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1692360" y="5943600"/>
            <a:ext cx="5686200" cy="7714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60280" y="907920"/>
            <a:ext cx="8751960" cy="4280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пы заданий в КИМ ОГ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1835280" y="5300640"/>
            <a:ext cx="5616360" cy="12819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 с  развернутым  ответом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балла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4, 22, 25 и 2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балла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6, 17, 27 и 2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Скругленный прямоугольник 1"/>
          <p:cNvSpPr/>
          <p:nvPr/>
        </p:nvSpPr>
        <p:spPr>
          <a:xfrm>
            <a:off x="4140360" y="4869000"/>
            <a:ext cx="1584000" cy="318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головок 3"/>
          <p:cNvSpPr/>
          <p:nvPr/>
        </p:nvSpPr>
        <p:spPr>
          <a:xfrm>
            <a:off x="457200" y="274680"/>
            <a:ext cx="8228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ецификация КИМ ОГЭ – 20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Рисунок 5" descr=""/>
          <p:cNvPicPr/>
          <p:nvPr/>
        </p:nvPicPr>
        <p:blipFill>
          <a:blip r:embed="rId1"/>
          <a:stretch/>
        </p:blipFill>
        <p:spPr>
          <a:xfrm>
            <a:off x="274680" y="1484280"/>
            <a:ext cx="866304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Заголовок 3"/>
          <p:cNvSpPr/>
          <p:nvPr/>
        </p:nvSpPr>
        <p:spPr>
          <a:xfrm>
            <a:off x="452520" y="44280"/>
            <a:ext cx="82278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ецификация КИМ ОГЭ – 20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452520" y="789120"/>
            <a:ext cx="84438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5800"/>
            <a:ext cx="8362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новой модели  КИМ ОГЭ.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ификат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725400" y="1189080"/>
            <a:ext cx="3264120" cy="552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3" name="Овал 1"/>
          <p:cNvSpPr/>
          <p:nvPr/>
        </p:nvSpPr>
        <p:spPr>
          <a:xfrm>
            <a:off x="714240" y="5070600"/>
            <a:ext cx="3598920" cy="164124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4500720" y="1231920"/>
            <a:ext cx="3671640" cy="451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5076720" y="3300480"/>
            <a:ext cx="3905280" cy="341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Овал 6"/>
          <p:cNvSpPr/>
          <p:nvPr/>
        </p:nvSpPr>
        <p:spPr>
          <a:xfrm>
            <a:off x="5410080" y="4653000"/>
            <a:ext cx="3600720" cy="220500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28080"/>
            <a:ext cx="8228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ификатор ОГЭ, раздел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87240" y="907920"/>
            <a:ext cx="7797960" cy="5689800"/>
          </a:xfrm>
          <a:prstGeom prst="rect">
            <a:avLst/>
          </a:prstGeom>
          <a:ln w="0">
            <a:noFill/>
          </a:ln>
        </p:spPr>
      </p:pic>
      <p:sp>
        <p:nvSpPr>
          <p:cNvPr id="79" name="Скругленный прямоугольник 1"/>
          <p:cNvSpPr/>
          <p:nvPr/>
        </p:nvSpPr>
        <p:spPr>
          <a:xfrm>
            <a:off x="1932120" y="3860640"/>
            <a:ext cx="6553080" cy="1368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Скругленный прямоугольник 4"/>
          <p:cNvSpPr/>
          <p:nvPr/>
        </p:nvSpPr>
        <p:spPr>
          <a:xfrm>
            <a:off x="1932120" y="5724360"/>
            <a:ext cx="6553080" cy="873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Прямая соединительная линия 3"/>
          <p:cNvSpPr/>
          <p:nvPr/>
        </p:nvSpPr>
        <p:spPr>
          <a:xfrm>
            <a:off x="4211640" y="1989000"/>
            <a:ext cx="273672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Елена</cp:lastModifiedBy>
  <dcterms:modified xsi:type="dcterms:W3CDTF">2019-03-28T02:07:04Z</dcterms:modified>
  <cp:revision>502</cp:revision>
  <dc:subject/>
  <dc:title>Слайд 1</dc:title>
</cp:coreProperties>
</file>