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0F6D-6D77-472B-B4F2-67AFDE23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840-CB5E-4E78-BA39-EDED7603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EC0-769E-493C-9106-ACBEAE1C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B4C-8C6E-41E2-A1F8-D0E5EC3F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70FB-0A43-47BD-B855-842E8A8C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9BC6-CF09-4B0B-BD92-4BC75440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C6CC-043A-435C-9E58-FFBAC2F8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4ED6-EC3E-4B33-8C90-AFDD6B2F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B10A-214D-4EB9-A6A6-8A28FC1B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4D56-3A83-49AE-8D31-DF38223B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57FA-995C-4DCF-BA28-FF219567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9A7-6F91-44F1-96DC-05AEB277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E31B-40CA-4505-BACB-B8ED26CB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6B57-A5F7-4F0B-8A5C-015D0045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D9FE-289B-4FB8-BAC6-F14B06F6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E098-7FEA-4954-912C-B6D1B26E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ECBF-69AD-43A8-B26B-A188B832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5BA-6600-460A-B9F2-82F643C0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DC8-B3A8-4541-A4F4-672A4937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2B3-BE8C-44C0-870B-6989E426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FA9-F9EC-4040-8EA6-DA3044DD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A20-47C0-4B28-9E33-B868483E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B45-17E7-400D-B25B-667FD969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326-64CE-48E3-9001-E73D899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9699-BA54-4307-8048-BFA69AAC57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FF19-7EBC-4B1F-A1AF-8109E4CAF2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Arial Black"/>
              </a:rPr>
              <a:t>Дорога</a:t>
            </a:r>
            <a:r>
              <a:rPr b="1" i="1" lang="ru-RU" sz="5400" spc="-1" strike="noStrike">
                <a:solidFill>
                  <a:srgbClr val="0000ff"/>
                </a:solidFill>
                <a:latin typeface="Arial Black"/>
              </a:rPr>
              <a:t> Добр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638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Царство </a:t>
            </a:r>
            <a:r>
              <a:rPr b="1" i="1" lang="ru-RU" sz="4400" spc="-1" strike="noStrike">
                <a:solidFill>
                  <a:srgbClr val="ffffff"/>
                </a:solidFill>
                <a:latin typeface="Arial Black"/>
              </a:rPr>
              <a:t>Доброт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14400" y="1371600"/>
          <a:ext cx="7238880" cy="5335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515880"/>
                <a:gridCol w="516240"/>
                <a:gridCol w="515880"/>
                <a:gridCol w="517320"/>
                <a:gridCol w="517680"/>
                <a:gridCol w="517680"/>
                <a:gridCol w="517320"/>
                <a:gridCol w="517680"/>
                <a:gridCol w="519120"/>
                <a:gridCol w="517320"/>
                <a:gridCol w="517680"/>
                <a:gridCol w="517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14400" y="2666880"/>
          <a:ext cx="7224840" cy="517680"/>
        </p:xfrm>
        <a:graphic>
          <a:graphicData uri="http://schemas.openxmlformats.org/drawingml/2006/table">
            <a:tbl>
              <a:tblPr/>
              <a:tblGrid>
                <a:gridCol w="514440"/>
                <a:gridCol w="515880"/>
                <a:gridCol w="514440"/>
                <a:gridCol w="514080"/>
                <a:gridCol w="516240"/>
                <a:gridCol w="515880"/>
                <a:gridCol w="517320"/>
                <a:gridCol w="515880"/>
                <a:gridCol w="517680"/>
                <a:gridCol w="515880"/>
                <a:gridCol w="517680"/>
                <a:gridCol w="515880"/>
                <a:gridCol w="517320"/>
                <a:gridCol w="516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62120" y="1981080"/>
          <a:ext cx="7543800" cy="5176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8200"/>
                <a:gridCol w="536400"/>
                <a:gridCol w="540000"/>
                <a:gridCol w="539640"/>
                <a:gridCol w="539640"/>
                <a:gridCol w="540000"/>
                <a:gridCol w="539640"/>
                <a:gridCol w="538200"/>
                <a:gridCol w="539640"/>
                <a:gridCol w="539640"/>
                <a:gridCol w="540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447920" y="3276720"/>
          <a:ext cx="6699240" cy="519120"/>
        </p:xfrm>
        <a:graphic>
          <a:graphicData uri="http://schemas.openxmlformats.org/drawingml/2006/table">
            <a:tbl>
              <a:tblPr/>
              <a:tblGrid>
                <a:gridCol w="1050840"/>
                <a:gridCol w="433440"/>
                <a:gridCol w="433440"/>
                <a:gridCol w="433080"/>
                <a:gridCol w="433440"/>
                <a:gridCol w="435240"/>
                <a:gridCol w="434880"/>
                <a:gridCol w="434880"/>
                <a:gridCol w="434880"/>
                <a:gridCol w="435240"/>
                <a:gridCol w="434880"/>
                <a:gridCol w="434880"/>
                <a:gridCol w="434880"/>
                <a:gridCol w="435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600200" y="3886200"/>
          <a:ext cx="6081840" cy="51768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3440"/>
                <a:gridCol w="433080"/>
                <a:gridCol w="433440"/>
                <a:gridCol w="435240"/>
                <a:gridCol w="434880"/>
                <a:gridCol w="434880"/>
                <a:gridCol w="434880"/>
                <a:gridCol w="435240"/>
                <a:gridCol w="434880"/>
                <a:gridCol w="434880"/>
                <a:gridCol w="434880"/>
                <a:gridCol w="435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143000" y="4495680"/>
          <a:ext cx="6310440" cy="517680"/>
        </p:xfrm>
        <a:graphic>
          <a:graphicData uri="http://schemas.openxmlformats.org/drawingml/2006/table">
            <a:tbl>
              <a:tblPr/>
              <a:tblGrid>
                <a:gridCol w="449280"/>
                <a:gridCol w="450720"/>
                <a:gridCol w="449280"/>
                <a:gridCol w="449280"/>
                <a:gridCol w="449280"/>
                <a:gridCol w="452520"/>
                <a:gridCol w="450720"/>
                <a:gridCol w="451080"/>
                <a:gridCol w="360360"/>
                <a:gridCol w="542880"/>
                <a:gridCol w="450720"/>
                <a:gridCol w="451080"/>
                <a:gridCol w="452160"/>
                <a:gridCol w="45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371600" y="5181480"/>
          <a:ext cx="6081840" cy="51768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3440"/>
                <a:gridCol w="433080"/>
                <a:gridCol w="433440"/>
                <a:gridCol w="435240"/>
                <a:gridCol w="369720"/>
                <a:gridCol w="380880"/>
                <a:gridCol w="381240"/>
                <a:gridCol w="608040"/>
                <a:gridCol w="434880"/>
                <a:gridCol w="434880"/>
                <a:gridCol w="434880"/>
                <a:gridCol w="435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 Black"/>
              </a:rPr>
              <a:t>Доброта важнее и нужнее всех человеческих качеств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5" descr="C:\Users\User\Desktop\Рисунок4.jpg"/>
          <p:cNvPicPr/>
          <p:nvPr/>
        </p:nvPicPr>
        <p:blipFill>
          <a:blip r:embed="rId1"/>
          <a:stretch/>
        </p:blipFill>
        <p:spPr>
          <a:xfrm rot="369600">
            <a:off x="5181480" y="1599840"/>
            <a:ext cx="3816360" cy="2482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:\Users\User\Desktop\Рисунок5.png"/>
          <p:cNvPicPr/>
          <p:nvPr/>
        </p:nvPicPr>
        <p:blipFill>
          <a:blip r:embed="rId2"/>
          <a:stretch/>
        </p:blipFill>
        <p:spPr>
          <a:xfrm>
            <a:off x="3200400" y="3560760"/>
            <a:ext cx="3227400" cy="327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User\Desktop\Рисунок3.jpg"/>
          <p:cNvPicPr/>
          <p:nvPr/>
        </p:nvPicPr>
        <p:blipFill>
          <a:blip r:embed="rId3"/>
          <a:stretch/>
        </p:blipFill>
        <p:spPr>
          <a:xfrm rot="20869800">
            <a:off x="229680" y="1792080"/>
            <a:ext cx="3548160" cy="2566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Памятк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райся видеть в людях, прежде всего хорошее и доброе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этого все окружающие становятся добрее и симпатичн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ь добрым к людя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сь добру у добрых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бойся предлагать свою помощь тем, кто в ней нуждается, помогай в первую очередь людям, попавшим в беду, слабым, боль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ичиняя зла, добрей становишься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User\Desktop\Рисунок2.png"/>
          <p:cNvPicPr/>
          <p:nvPr/>
        </p:nvPicPr>
        <p:blipFill>
          <a:blip r:embed="rId1"/>
          <a:stretch/>
        </p:blipFill>
        <p:spPr>
          <a:xfrm>
            <a:off x="1066680" y="208080"/>
            <a:ext cx="7944120" cy="6269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абиринт Доб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7816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Скамейка </a:t>
            </a:r>
            <a:r>
              <a:rPr b="1" i="1" lang="ru-RU" sz="4400" spc="-1" strike="noStrike">
                <a:solidFill>
                  <a:srgbClr val="0000ff"/>
                </a:solidFill>
                <a:latin typeface="Arial Black"/>
              </a:rPr>
              <a:t>добрых сл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96080" cy="426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Формы приветствия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дравствуй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брое ут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брый д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брый вече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Формы благодарност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ольшое спасиб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лагодарю ва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Формы пожелани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сего хорошег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сего доброг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удьте здоро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окойной но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ятного аппети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брого пу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рота </a:t>
            </a: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Вежлив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5334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8007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Вежа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– от слов «ведать», «знать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Вежа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– человек, который знает, как вести себя в той или иной обстановке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Вежество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- качество ценное и обязательное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 Black"/>
              </a:rPr>
              <a:t>        </a:t>
            </a:r>
            <a:r>
              <a:rPr b="1" lang="ru-RU" sz="4400" spc="-1" strike="noStrike">
                <a:solidFill>
                  <a:srgbClr val="9900cc"/>
                </a:solidFill>
                <a:latin typeface="Arial Black"/>
              </a:rPr>
              <a:t>Арка </a:t>
            </a:r>
            <a:r>
              <a:rPr b="1" i="1" lang="ru-RU" sz="4400" spc="-1" strike="noStrike">
                <a:solidFill>
                  <a:srgbClr val="9900cc"/>
                </a:solidFill>
                <a:latin typeface="Arial Black"/>
              </a:rPr>
              <a:t>Доб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190760" cy="4495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5-13T05:07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